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EFDB-E08B-464D-B191-B22801931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8130-A436-4279-A6DC-596008E2E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2EF3-1F23-4744-863A-CEACA36B5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4400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072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728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4400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072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D5F2-9C5B-45FA-8CD7-7F25A9981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FE592-636C-4F63-9762-10A2CAF2D0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A877-F888-4131-BBE0-62D4138F9F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66791-4512-4685-AAE6-86528419E7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CE73F-0C5A-4674-981F-91E4CB5220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80EB-391C-4044-A967-F312495A6E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15640" y="907920"/>
            <a:ext cx="75596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96F7A-EFA7-4729-BC20-CBF73BE517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638D-D34D-45C3-BCA9-0E563107C8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0A03-2546-4B7B-ACF7-DFEDB7775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A5CEA-50D6-4010-ABAC-4AEAC955D5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5094-6FB1-47F7-9CBF-A3ADC47038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F6BA-AB9F-44FF-8566-C0B9C9A936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80926-DC77-4646-A175-2F1705A25C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4400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0072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728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4400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0072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9652-9087-4D4C-93B8-60864AD0DB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5EF72-F0F9-473E-99F7-42095E11E1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4A187-10C8-45CE-A76E-3D49D4C266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8A65A-D2CC-40AF-B74E-9AA207BA86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043D7-22A0-464C-8F9D-451B0DFCF8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147F3-2EA8-466C-98EE-0D1B169CA7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69C8-EA7F-4E93-A9D2-C3FA66107E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115640" y="907920"/>
            <a:ext cx="75596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9E18C-B31B-42D5-A33F-09CC107976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0263A-D3BB-4B0A-BF5A-EC89F40646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252C3-3C04-4A0D-B270-97E2758C65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74F28-7A75-4519-A35E-FF6CC4AB4C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6E994-07A3-4CED-AFE9-8D22216A34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AD313-4696-44A1-9A3F-70A5B1E3B7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74400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0072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18728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74400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0072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3BECD-8D0F-4711-ADFA-687920F73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B7D6-B4B8-40FD-979E-735906A15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627E-139A-45F1-9E6F-16CF5C6E5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5640" y="907920"/>
            <a:ext cx="75596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328F-9F98-4CCF-AFD0-A14F68CA0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0B61-1CD5-4FE9-B47E-49BD52A33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0B9A-9BB1-48D3-BBFF-68225571D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2BAB-C0E5-490C-870D-680105F29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8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6943-F122-4ACB-B720-E1FA3747CB54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15640" y="2852280"/>
            <a:ext cx="75596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258560" y="4365360"/>
            <a:ext cx="748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3560" indent="-511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0556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8800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7008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7008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7008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16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6" name="Text Box 17"/>
          <p:cNvSpPr/>
          <p:nvPr/>
        </p:nvSpPr>
        <p:spPr>
          <a:xfrm>
            <a:off x="1258920" y="5373720"/>
            <a:ext cx="75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0" lang="de-DE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7" name="Text Box 18"/>
          <p:cNvSpPr/>
          <p:nvPr/>
        </p:nvSpPr>
        <p:spPr>
          <a:xfrm rot="16200000">
            <a:off x="-930960" y="1961280"/>
            <a:ext cx="288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– Dortmund - Germany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8" name="Picture 24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1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1042920" y="6237360"/>
            <a:ext cx="81010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19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89D8-1886-4554-809F-619059832CC1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1332000" y="6237000"/>
            <a:ext cx="54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1" marL="363960" indent="-140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2" marL="5598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3" marL="78408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4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5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6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6877080" y="6237360"/>
            <a:ext cx="2266920" cy="307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ca2d1"/>
                </a:solidFill>
                <a:latin typeface="Arial"/>
              </a:rPr>
              <a:t>Baris Izci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75912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53" name="Text Box 23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54" name="Text Box 24"/>
          <p:cNvSpPr/>
          <p:nvPr/>
        </p:nvSpPr>
        <p:spPr>
          <a:xfrm rot="16200000">
            <a:off x="-911160" y="1909800"/>
            <a:ext cx="28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- Dortmund - Germany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55" name="Picture 25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822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4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2EFC-3BAD-4E59-82AD-1D43BE4172E0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5"/>
          </p:nvPr>
        </p:nvSpPr>
        <p:spPr>
          <a:xfrm>
            <a:off x="1332000" y="6237000"/>
            <a:ext cx="518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588000" y="6237360"/>
            <a:ext cx="22669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8" name="Text Box 20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9" name="Text Box 21"/>
          <p:cNvSpPr/>
          <p:nvPr/>
        </p:nvSpPr>
        <p:spPr>
          <a:xfrm rot="16200000">
            <a:off x="-907200" y="1987560"/>
            <a:ext cx="28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Dortmund Germany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00" name="Picture 22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cdd.gov.tr/tcdding/avrupa_ing.htmhttp://en.wikipedia.org/wiki/Turkish_State_Railways" TargetMode="External"/><Relationship Id="rId2" Type="http://schemas.openxmlformats.org/officeDocument/2006/relationships/hyperlink" Target="http://en.wikipedia.org/wiki/Istanbul_Sirkeci_railway_station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71400" y="214200"/>
            <a:ext cx="7242120" cy="25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5400" spc="-1" strike="noStrike">
                <a:solidFill>
                  <a:srgbClr val="000099"/>
                </a:solidFill>
                <a:latin typeface="Australian Sunrise"/>
                <a:ea typeface="宋体"/>
              </a:rPr>
              <a:t>Public Railways Transportation between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Australian Sunrise"/>
                <a:ea typeface="宋体"/>
              </a:rPr>
              <a:t>Turkey and Balkan States</a:t>
            </a:r>
            <a:br>
              <a:rPr sz="3600"/>
            </a:b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071440" y="2785680"/>
            <a:ext cx="5832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1" lang="de-DE" sz="4000" spc="-1" strike="noStrike">
                <a:solidFill>
                  <a:srgbClr val="333399"/>
                </a:solidFill>
                <a:latin typeface="Australian Sunrise"/>
                <a:ea typeface="宋体"/>
              </a:rPr>
              <a:t>Presen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ustralian Sunrise"/>
                <a:ea typeface="宋体"/>
              </a:rPr>
              <a:t> </a:t>
            </a:r>
            <a:r>
              <a:rPr b="1" lang="de-DE" sz="3200" spc="-1" strike="noStrike">
                <a:solidFill>
                  <a:srgbClr val="333399"/>
                </a:solidFill>
                <a:latin typeface="Australian Sunrise"/>
                <a:ea typeface="宋体"/>
              </a:rPr>
              <a:t>Baris Iz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876E-E702-459E-93FA-18219572B1F4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7572600" cy="51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CD1F-AC69-43FA-A695-96FDC1F75E06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285920" y="50004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2d2d8a"/>
                </a:solidFill>
                <a:latin typeface="Arial"/>
              </a:rPr>
              <a:t>References</a:t>
            </a: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7280" y="2205000"/>
            <a:ext cx="75614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cdd.gov.tr/tcdding/avrupa_ing.htmhttp://en.wikipedia.org/wiki/Turkish_State_Railway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Istanbul_Sirkeci_railway_stat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5529-B8A7-4A66-9BA5-95C6E7864B4E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7200" y="999720"/>
            <a:ext cx="75614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TURKISH STATE RAILWAYS</a:t>
            </a:r>
            <a:endParaRPr b="0" lang="en-US" sz="3200" spc="-1" strike="noStrike">
              <a:solidFill>
                <a:srgbClr val="3a19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1900"/>
                </a:solidFill>
                <a:latin typeface="Arial"/>
                <a:ea typeface="Times New Roman"/>
              </a:rPr>
              <a:t>One of the biggest state owned corporation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ique operater of the domestic line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1900"/>
                </a:solidFill>
                <a:latin typeface="Arial"/>
                <a:ea typeface="Times New Roman"/>
              </a:rPr>
              <a:t>Member of InterRail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s Middle East- the Balkans –Europe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rerates its trains to further European Countries with Interrail.</a:t>
            </a:r>
            <a:br>
              <a:rPr sz="3200"/>
            </a:br>
            <a:r>
              <a:rPr b="1" lang="de-DE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a1900"/>
              </a:solidFill>
              <a:latin typeface="Arial"/>
            </a:endParaRPr>
          </a:p>
        </p:txBody>
      </p:sp>
      <p:pic>
        <p:nvPicPr>
          <p:cNvPr id="141" name="Content Placeholder 6" descr="tcdd.jpg"/>
          <p:cNvPicPr/>
          <p:nvPr/>
        </p:nvPicPr>
        <p:blipFill>
          <a:blip r:embed="rId1"/>
          <a:stretch/>
        </p:blipFill>
        <p:spPr>
          <a:xfrm>
            <a:off x="3214800" y="142920"/>
            <a:ext cx="3571920" cy="121428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4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7194-D8FB-4BD5-A15E-37AA80072D52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43" name="Footer Placeholder 5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SYSTEM BETWEEN TURKEY AND BALKAN 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8E81-1E53-4DB9-99C1-414EB09F1DD4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360" y="188640"/>
            <a:ext cx="8072280" cy="595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1403280" y="285840"/>
            <a:ext cx="709776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1900"/>
                </a:solidFill>
                <a:latin typeface="Australian Sunrise"/>
              </a:rPr>
              <a:t>    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Trains to the Balkans</a:t>
            </a:r>
            <a:endParaRPr b="0" lang="en-US" sz="36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900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9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en-US" sz="2800" spc="-1" strike="noStrike">
                <a:solidFill>
                  <a:srgbClr val="3a1900"/>
                </a:solidFill>
                <a:latin typeface="Arial"/>
                <a:ea typeface="Times New Roman"/>
              </a:rPr>
              <a:t>Bosphorus Express</a:t>
            </a:r>
            <a:endParaRPr b="0" lang="en-US" sz="28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buClr>
                <a:srgbClr val="3a1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buClr>
                <a:srgbClr val="3a1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900"/>
                </a:solidFill>
                <a:latin typeface="Times New Roman"/>
                <a:ea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1900"/>
                </a:solidFill>
                <a:latin typeface="Arial"/>
                <a:ea typeface="Times New Roman"/>
              </a:rPr>
              <a:t>Filia Express</a:t>
            </a: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48" name="Picture 7" descr="Bosphorus-Europe-Express.jpg"/>
          <p:cNvPicPr/>
          <p:nvPr/>
        </p:nvPicPr>
        <p:blipFill>
          <a:blip r:embed="rId1"/>
          <a:stretch/>
        </p:blipFill>
        <p:spPr>
          <a:xfrm>
            <a:off x="1285920" y="2000160"/>
            <a:ext cx="3357360" cy="1803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dostluk_tr.jpg"/>
          <p:cNvPicPr/>
          <p:nvPr/>
        </p:nvPicPr>
        <p:blipFill>
          <a:blip r:embed="rId2"/>
          <a:stretch/>
        </p:blipFill>
        <p:spPr>
          <a:xfrm>
            <a:off x="4786200" y="3857760"/>
            <a:ext cx="3300480" cy="2350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12B0-369C-4EBA-A46D-5482EAA425A9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56840" y="50004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  <a:ea typeface="Times New Roman"/>
              </a:rPr>
              <a:t>ROUTES</a:t>
            </a:r>
            <a:endParaRPr b="0" lang="en-US" sz="36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4280" y="1785600"/>
            <a:ext cx="756144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Times New Roman"/>
              </a:rPr>
              <a:t>Bosphorus Expres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3a1900"/>
                </a:solidFill>
                <a:latin typeface="Arial"/>
                <a:ea typeface="Times New Roman"/>
              </a:rPr>
              <a:t>Istanbul-Sofia-Belgrade-Buchares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Times New Roman"/>
              </a:rPr>
              <a:t>Filia Expres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3a1900"/>
                </a:solidFill>
                <a:latin typeface="Arial"/>
                <a:ea typeface="Times New Roman"/>
              </a:rPr>
              <a:t>Istanbul-Alexandroupolis-Komotini-Xanthi-Drama-Serres-Kilkis-Salonika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16D4-E45B-43B8-B744-FB83FDC1854D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755964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d2d8a"/>
                </a:solidFill>
                <a:latin typeface="Arial"/>
                <a:ea typeface="Times New Roman"/>
              </a:rPr>
              <a:t>FARES</a:t>
            </a:r>
            <a:br>
              <a:rPr sz="5400"/>
            </a:br>
            <a:r>
              <a:rPr b="1" lang="en-US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(TL)</a:t>
            </a:r>
            <a:br>
              <a:rPr sz="4400"/>
            </a:b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71760" y="1928520"/>
            <a:ext cx="75722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8a"/>
                </a:solidFill>
                <a:latin typeface="Arial"/>
                <a:ea typeface="Times New Roman"/>
              </a:rPr>
              <a:t>Bosphorus Expres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643040" y="2643120"/>
          <a:ext cx="6095880" cy="2835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TE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Klas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Klas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Sofia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6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7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Belgrad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,9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9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Bucharest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8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5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0E5A-7A18-4E63-9C64-5FAB3D93B3CD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5596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d2d8a"/>
                </a:solidFill>
                <a:latin typeface="Arial"/>
                <a:ea typeface="Times New Roman"/>
              </a:rPr>
              <a:t>FARES</a:t>
            </a:r>
            <a:br>
              <a:rPr sz="5400"/>
            </a:br>
            <a:r>
              <a:rPr b="1" lang="en-US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(TL)</a:t>
            </a:r>
            <a:br>
              <a:rPr sz="4400"/>
            </a:b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643040"/>
            <a:ext cx="75614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  <a:ea typeface="Times New Roman"/>
              </a:rPr>
              <a:t>Bosphorus Expres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a1900"/>
                </a:solidFill>
                <a:latin typeface="Arial"/>
                <a:ea typeface="Times New Roman"/>
              </a:rPr>
              <a:t>Supplement Fares for Sleeping Car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14680" y="2786040"/>
          <a:ext cx="6643440" cy="3317760"/>
        </p:xfrm>
        <a:graphic>
          <a:graphicData uri="http://schemas.openxmlformats.org/drawingml/2006/table">
            <a:tbl>
              <a:tblPr/>
              <a:tblGrid>
                <a:gridCol w="1660320"/>
                <a:gridCol w="1662120"/>
                <a:gridCol w="1660680"/>
                <a:gridCol w="1660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te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rist(2/3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uble(2/2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(1/1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Sofia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3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Belgrad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9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,8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Bucharest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,9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596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d8a"/>
                </a:solidFill>
                <a:latin typeface="Arial"/>
                <a:ea typeface="Times New Roman"/>
              </a:rPr>
              <a:t>FARES</a:t>
            </a:r>
            <a:br>
              <a:rPr sz="4800"/>
            </a:br>
            <a:r>
              <a:rPr b="1" lang="en-US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(TL)</a:t>
            </a:r>
            <a:endParaRPr b="0" lang="en-US" sz="20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4280" y="1499760"/>
            <a:ext cx="75614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FILIA EXPRES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ACA4-16BC-45CE-A881-9386DDFBDCAC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14280" y="2286000"/>
          <a:ext cx="7286760" cy="3757680"/>
        </p:xfrm>
        <a:graphic>
          <a:graphicData uri="http://schemas.openxmlformats.org/drawingml/2006/table">
            <a:tbl>
              <a:tblPr/>
              <a:tblGrid>
                <a:gridCol w="2428920"/>
                <a:gridCol w="2428920"/>
                <a:gridCol w="2428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t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Clas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Class       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anbul-Salonik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,9                                                   57        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Kilki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,2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,9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Serr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,3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,8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Dram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,3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,8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Xanthi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9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Komotini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2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,4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Alexandroupoli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1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,7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75596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2d2d8a"/>
                </a:solidFill>
                <a:latin typeface="Arial"/>
                <a:ea typeface="Times New Roman"/>
              </a:rPr>
              <a:t>Decision Table</a:t>
            </a:r>
            <a:endParaRPr b="0" lang="en-US" sz="5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87280" y="2205000"/>
            <a:ext cx="756144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d2d8a"/>
                </a:solidFill>
                <a:latin typeface="Arial"/>
              </a:rPr>
              <a:t>Conditions</a:t>
            </a:r>
            <a:endParaRPr b="0" lang="en-US" sz="32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Preferred traveling Clas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Willing to have sleeping car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Act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a) Price in Turkish Lira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716E-24B0-47B6-AF1C-2B47C9B8A111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9720" y="21420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2d2d8a"/>
                </a:solidFill>
                <a:latin typeface="Arial"/>
              </a:rPr>
              <a:t>Decision Table</a:t>
            </a:r>
            <a:br>
              <a:rPr sz="4800"/>
            </a:br>
            <a:r>
              <a:rPr b="0" lang="de-DE" sz="4800" spc="-1" strike="noStrike">
                <a:solidFill>
                  <a:srgbClr val="2d2d8a"/>
                </a:solidFill>
                <a:latin typeface="Arial"/>
              </a:rPr>
              <a:t>Samples</a:t>
            </a: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AB09-05B4-4660-ACD6-93C3BAC51058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7715520" cy="442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1:28:58Z</dcterms:created>
  <dc:creator>Fachbereich Wirtschaft</dc:creator>
  <dc:description/>
  <dc:language>en-US</dc:language>
  <cp:lastModifiedBy>USER</cp:lastModifiedBy>
  <dcterms:modified xsi:type="dcterms:W3CDTF">2009-10-12T21:58:35Z</dcterms:modified>
  <cp:revision>82</cp:revision>
  <dc:subject/>
  <dc:title>Simulation Methods and Educational Educational Games for Project Management</dc:title>
</cp:coreProperties>
</file>